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E917-B307-4938-969C-50CC625DB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93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1658-F089-44B9-86D8-52429CA2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020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93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020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77D2-E1D8-47DB-90F8-43E9EB8D9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47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749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9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47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749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EAF0-1F38-42AD-B1C8-EB75446C6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93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84FA-38BC-441F-9B3B-F51D3137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93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58E6-4FE8-4010-93A6-29CF5913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020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D9E5-3E24-4417-A59F-E0423CE7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DF27-DBDB-4F68-A6D7-11147D1B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932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C2D4-0EF6-4191-9905-52802B3D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93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020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93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B88A-607F-4CAD-B04E-4C197011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020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BAEA-DFF8-4B67-B0C4-9D06B11A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1216-46DA-4FD6-B19B-42297F8E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18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866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DF9F-ED47-45CB-905D-42E3B39C2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Arial"/>
              </a:rPr>
              <a:t>Притча о талант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19255"/>
          <p:cNvPicPr/>
          <p:nvPr/>
        </p:nvPicPr>
        <p:blipFill>
          <a:blip r:embed="rId1"/>
          <a:stretch/>
        </p:blipFill>
        <p:spPr>
          <a:xfrm>
            <a:off x="2050920" y="1844640"/>
            <a:ext cx="5688000" cy="45435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33"/>
                </a:solidFill>
                <a:latin typeface="Monotype Corsiva"/>
              </a:rPr>
              <a:t>Пушкинские места в Москв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Burganov_puskin_natali"/>
          <p:cNvPicPr/>
          <p:nvPr/>
        </p:nvPicPr>
        <p:blipFill>
          <a:blip r:embed="rId1"/>
          <a:stretch/>
        </p:blipFill>
        <p:spPr>
          <a:xfrm>
            <a:off x="971640" y="1989000"/>
            <a:ext cx="2576520" cy="4114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pushkin004"/>
          <p:cNvPicPr/>
          <p:nvPr/>
        </p:nvPicPr>
        <p:blipFill>
          <a:blip r:embed="rId2"/>
          <a:srcRect l="0" t="0" r="0" b="16640"/>
          <a:stretch/>
        </p:blipFill>
        <p:spPr>
          <a:xfrm>
            <a:off x="5508720" y="1628640"/>
            <a:ext cx="2306520" cy="2521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muzey_imeni_pushkina"/>
          <p:cNvPicPr/>
          <p:nvPr/>
        </p:nvPicPr>
        <p:blipFill>
          <a:blip r:embed="rId3"/>
          <a:stretch/>
        </p:blipFill>
        <p:spPr>
          <a:xfrm>
            <a:off x="5364000" y="4437000"/>
            <a:ext cx="2641680" cy="19814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476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Отче наш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38102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Я слышал — в келии простой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Старик молитвою чудесной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Молился тихо предо мной: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"Отец людей, Отец Небесный!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Да имя вечное Твое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Святится нашими сердцами;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Да придет Царствие Твое,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Твоя да будет воля с нами,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Как в небесах, так на земли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Насущный хлеб нам ниспошли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Своею щедрою рукою;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81480" y="1557000"/>
            <a:ext cx="381024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И как прощаем мы людей,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Так нас, ничтожных пред Тобою,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Прости, Отец, Своих детей;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Не ввергни нас во искушенье,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И от лукавого прельщенья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Избави нас!.."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Перед крестом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Так он молился. Свет лампады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Мерцал впотьмах издалека,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И сердце чуяло отраду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От той молитвы стари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imgpreview"/>
          <p:cNvPicPr/>
          <p:nvPr/>
        </p:nvPicPr>
        <p:blipFill>
          <a:blip r:embed="rId1"/>
          <a:stretch/>
        </p:blipFill>
        <p:spPr>
          <a:xfrm>
            <a:off x="395280" y="404640"/>
            <a:ext cx="1224000" cy="11527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2" descr="object_73"/>
          <p:cNvPicPr/>
          <p:nvPr/>
        </p:nvPicPr>
        <p:blipFill>
          <a:blip r:embed="rId1"/>
          <a:stretch/>
        </p:blipFill>
        <p:spPr>
          <a:xfrm>
            <a:off x="395280" y="2060640"/>
            <a:ext cx="2808360" cy="36734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Дом – музей Чайковского в Клину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klin004"/>
          <p:cNvPicPr/>
          <p:nvPr/>
        </p:nvPicPr>
        <p:blipFill>
          <a:blip r:embed="rId2"/>
          <a:stretch/>
        </p:blipFill>
        <p:spPr>
          <a:xfrm>
            <a:off x="4140360" y="1341360"/>
            <a:ext cx="3473280" cy="2305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DSC02941"/>
          <p:cNvPicPr/>
          <p:nvPr/>
        </p:nvPicPr>
        <p:blipFill>
          <a:blip r:embed="rId3"/>
          <a:srcRect l="0" t="0" r="0" b="13900"/>
          <a:stretch/>
        </p:blipFill>
        <p:spPr>
          <a:xfrm>
            <a:off x="4211640" y="4005360"/>
            <a:ext cx="3384720" cy="25207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66"/>
                </a:solidFill>
                <a:latin typeface="Arial"/>
              </a:rPr>
              <a:t>Чайковский </a:t>
            </a:r>
            <a:br>
              <a:rPr sz="4000"/>
            </a:br>
            <a:r>
              <a:rPr b="1" i="1" lang="ru-RU" sz="4000" spc="-1" strike="noStrike">
                <a:solidFill>
                  <a:srgbClr val="000066"/>
                </a:solidFill>
                <a:latin typeface="Arial"/>
              </a:rPr>
              <a:t>«Детский альбом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9785962800318"/>
          <p:cNvPicPr/>
          <p:nvPr/>
        </p:nvPicPr>
        <p:blipFill>
          <a:blip r:embed="rId1"/>
          <a:stretch/>
        </p:blipFill>
        <p:spPr>
          <a:xfrm>
            <a:off x="3708360" y="2349360"/>
            <a:ext cx="3024360" cy="32324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4941720"/>
            <a:ext cx="7772400" cy="12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33"/>
                </a:solidFill>
                <a:latin typeface="Monotype Corsiva"/>
              </a:rPr>
              <a:t>«Утренняя молитв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._CHaykovskiy_.mp3" descr=""/>
          <p:cNvPicPr/>
          <p:nvPr/>
        </p:nvPicPr>
        <p:blipFill>
          <a:blip r:embed="rId2"/>
          <a:stretch/>
        </p:blipFill>
        <p:spPr>
          <a:xfrm>
            <a:off x="831708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8875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58920" y="260280"/>
            <a:ext cx="77328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Monotype Corsiva"/>
              </a:rPr>
              <a:t>Воспевание мира, созданного Творц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8960" y="1773000"/>
            <a:ext cx="38098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Times New Roman"/>
              </a:rPr>
              <a:t>Благословляю вас, лес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Times New Roman"/>
              </a:rPr>
              <a:t>Долины, нивы, горы, вод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Times New Roman"/>
              </a:rPr>
              <a:t>Благословляю я своб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Times New Roman"/>
              </a:rPr>
              <a:t>И голубые небес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Times New Roman"/>
              </a:rPr>
              <a:t>И посох мой благословля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Times New Roman"/>
              </a:rPr>
              <a:t>И эту бедную сум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81480" y="1915920"/>
            <a:ext cx="38102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Times New Roman"/>
              </a:rPr>
              <a:t>И степь от краю и до кра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Times New Roman"/>
              </a:rPr>
              <a:t>И солнца свет, и ночи тьм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Times New Roman"/>
              </a:rPr>
              <a:t>И одинокую тропин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Times New Roman"/>
              </a:rPr>
              <a:t>По коей, нищий, я ид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Times New Roman"/>
              </a:rPr>
              <a:t>И в поле каждую былин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Times New Roman"/>
              </a:rPr>
              <a:t>И в небе каждую звезд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Times New Roman"/>
              </a:rPr>
              <a:t>                 </a:t>
            </a:r>
            <a:r>
              <a:rPr b="1" i="1" lang="ru-RU" sz="2400" spc="-1" strike="noStrike">
                <a:solidFill>
                  <a:srgbClr val="660033"/>
                </a:solidFill>
                <a:latin typeface="Times New Roman"/>
              </a:rPr>
              <a:t>А. К. Тол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tolstoy-a-k"/>
          <p:cNvPicPr/>
          <p:nvPr/>
        </p:nvPicPr>
        <p:blipFill>
          <a:blip r:embed="rId1"/>
          <a:stretch/>
        </p:blipFill>
        <p:spPr>
          <a:xfrm>
            <a:off x="366840" y="333360"/>
            <a:ext cx="1315800" cy="16556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000245"/>
          <p:cNvPicPr/>
          <p:nvPr/>
        </p:nvPicPr>
        <p:blipFill>
          <a:blip r:embed="rId1"/>
          <a:srcRect l="8120" t="14355" r="8808" b="0"/>
          <a:stretch/>
        </p:blipFill>
        <p:spPr>
          <a:xfrm>
            <a:off x="1403280" y="1628640"/>
            <a:ext cx="3600360" cy="4653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.К. Толстой (1817 - 187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1814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эма «Иоанн Дамаскин»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884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660033"/>
                </a:solidFill>
                <a:latin typeface="Arial"/>
              </a:rPr>
              <a:t>Житие Иоанна Дамаск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18960" y="205740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1814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оанн Дамаскин – византийский богослов, поэт, сочинитель духовных гимнов, живший в 8 веке в Дамас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damaskin"/>
          <p:cNvPicPr/>
          <p:nvPr/>
        </p:nvPicPr>
        <p:blipFill>
          <a:blip r:embed="rId2"/>
          <a:stretch/>
        </p:blipFill>
        <p:spPr>
          <a:xfrm>
            <a:off x="1476360" y="1989000"/>
            <a:ext cx="3240000" cy="41767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Сергей Танеев (1856 - 1915)  -  русский композит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18960" y="205740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1814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нтата «Иоанн Дамаскин» - музыкальное произведение для хора и симфонического оркес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taneyev (1)"/>
          <p:cNvPicPr/>
          <p:nvPr/>
        </p:nvPicPr>
        <p:blipFill>
          <a:blip r:embed="rId2"/>
          <a:stretch/>
        </p:blipFill>
        <p:spPr>
          <a:xfrm>
            <a:off x="1476360" y="1989000"/>
            <a:ext cx="3684600" cy="44643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Arial"/>
              </a:rPr>
              <a:t>Иоанн Дамаск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С.И. Танеев, кантата Иоанн Дамаскин.wmv" descr=""/>
          <p:cNvPicPr/>
          <p:nvPr/>
        </p:nvPicPr>
        <p:blipFill>
          <a:blip r:embed="rId1"/>
          <a:stretch/>
        </p:blipFill>
        <p:spPr>
          <a:xfrm>
            <a:off x="2050920" y="1773360"/>
            <a:ext cx="5975640" cy="44812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480" dur="indefinite" restart="never" nodeType="tmRoot">
          <p:childTnLst>
            <p:seq>
              <p:cTn id="481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482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5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66"/>
                </a:solidFill>
                <a:latin typeface="Monotype Corsiva"/>
              </a:rPr>
              <a:t>Любовь к  ближнем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1814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660033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Monotype Corsiva"/>
              </a:rPr>
              <a:t>Заповедь новую даю вам, да </a:t>
            </a:r>
            <a:r>
              <a:rPr b="1" i="1" lang="ru-RU" sz="3600" spc="-1" strike="noStrike" u="sng">
                <a:solidFill>
                  <a:srgbClr val="660033"/>
                </a:solidFill>
                <a:uFillTx/>
                <a:latin typeface="Monotype Corsiva"/>
              </a:rPr>
              <a:t>любите друг друга; как  Я возлюбил вас…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Евангелие от Иоанна гл.13, стих3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taynaya_vecherya_rublev_tsl"/>
          <p:cNvPicPr/>
          <p:nvPr/>
        </p:nvPicPr>
        <p:blipFill>
          <a:blip r:embed="rId1"/>
          <a:stretch/>
        </p:blipFill>
        <p:spPr>
          <a:xfrm>
            <a:off x="1538280" y="2057400"/>
            <a:ext cx="31719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ikona12a (1)"/>
          <p:cNvPicPr/>
          <p:nvPr/>
        </p:nvPicPr>
        <p:blipFill>
          <a:blip r:embed="rId1"/>
          <a:srcRect l="0" t="9307" r="0" b="0"/>
          <a:stretch/>
        </p:blipFill>
        <p:spPr>
          <a:xfrm>
            <a:off x="2316240" y="620640"/>
            <a:ext cx="5583240" cy="60483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Monotype Corsiva"/>
              </a:rPr>
              <a:t>Любовь к  ближнем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"Люби!" - поют шуршащие березы,</a:t>
            </a:r>
            <a:br>
              <a:rPr sz="2000"/>
            </a:b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Когда на них сережки расцвели.</a:t>
            </a:r>
            <a:br>
              <a:rPr sz="2000"/>
            </a:b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"Люби!" - поет сирень в цветной пыли.</a:t>
            </a:r>
            <a:br>
              <a:rPr sz="2000"/>
            </a:b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"Люби! Люби!" - поют, пылая, розы.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Страшись безлюбья. И беги угрозы</a:t>
            </a:r>
            <a:br>
              <a:rPr sz="2000"/>
            </a:b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Бесстрастия. Твой полдень вмиг - вдали.</a:t>
            </a:r>
            <a:br>
              <a:rPr sz="2000"/>
            </a:b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Твою зарю теченья зорь сожгли.</a:t>
            </a:r>
            <a:br>
              <a:rPr sz="2000"/>
            </a:b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Люби любовь. Люби огонь и грезы.</a:t>
            </a:r>
            <a:br>
              <a:rPr sz="2000"/>
            </a:b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81480" y="1916280"/>
            <a:ext cx="3810240" cy="42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1400"/>
            </a:br>
            <a:r>
              <a:rPr b="1" i="1" lang="ru-RU" sz="1800" spc="-1" strike="noStrike">
                <a:solidFill>
                  <a:srgbClr val="660033"/>
                </a:solidFill>
                <a:latin typeface="Times New Roman"/>
              </a:rPr>
              <a:t>Кто не любил, не выполнил закон,</a:t>
            </a:r>
            <a:br>
              <a:rPr sz="1800"/>
            </a:br>
            <a:r>
              <a:rPr b="1" i="1" lang="ru-RU" sz="1800" spc="-1" strike="noStrike">
                <a:solidFill>
                  <a:srgbClr val="660033"/>
                </a:solidFill>
                <a:latin typeface="Times New Roman"/>
              </a:rPr>
              <a:t>Которым в мире движутся созвездья,</a:t>
            </a:r>
            <a:br>
              <a:rPr sz="1800"/>
            </a:br>
            <a:r>
              <a:rPr b="1" i="1" lang="ru-RU" sz="1800" spc="-1" strike="noStrike">
                <a:solidFill>
                  <a:srgbClr val="660033"/>
                </a:solidFill>
                <a:latin typeface="Times New Roman"/>
              </a:rPr>
              <a:t>Которым так прекрасен небосклон.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660033"/>
                </a:solidFill>
                <a:latin typeface="Times New Roman"/>
              </a:rPr>
              <a:t>Он в каждом часе слышит мертвый звон.</a:t>
            </a:r>
            <a:br>
              <a:rPr sz="1800"/>
            </a:br>
            <a:r>
              <a:rPr b="1" i="1" lang="ru-RU" sz="1800" spc="-1" strike="noStrike">
                <a:solidFill>
                  <a:srgbClr val="660033"/>
                </a:solidFill>
                <a:latin typeface="Times New Roman"/>
              </a:rPr>
              <a:t>Ему никак не избежать возмездья.</a:t>
            </a:r>
            <a:br>
              <a:rPr sz="1800"/>
            </a:br>
            <a:r>
              <a:rPr b="1" i="1" lang="ru-RU" sz="1800" spc="-1" strike="noStrike">
                <a:solidFill>
                  <a:srgbClr val="660033"/>
                </a:solidFill>
                <a:latin typeface="Times New Roman"/>
              </a:rPr>
              <a:t>Кто любит, счастлив. Пусть хоть распят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660033"/>
                </a:solidFill>
                <a:latin typeface="Times New Roman"/>
              </a:rPr>
              <a:t>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Times New Roman"/>
              </a:rPr>
              <a:t>                                   </a:t>
            </a:r>
            <a:r>
              <a:rPr b="1" i="1" lang="ru-RU" sz="1800" spc="-1" strike="noStrike">
                <a:solidFill>
                  <a:srgbClr val="660033"/>
                </a:solidFill>
                <a:latin typeface="Times New Roman"/>
              </a:rPr>
              <a:t>К. Бальм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220px-Konstantin_Balmont_by_Valentin_Serov_1905"/>
          <p:cNvPicPr/>
          <p:nvPr/>
        </p:nvPicPr>
        <p:blipFill>
          <a:blip r:embed="rId1"/>
          <a:srcRect l="0" t="0" r="0" b="39982"/>
          <a:stretch/>
        </p:blipFill>
        <p:spPr>
          <a:xfrm>
            <a:off x="324000" y="189000"/>
            <a:ext cx="1515960" cy="15843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Monotype Corsiva"/>
              </a:rPr>
              <a:t>Темы христианств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306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33"/>
                </a:solidFill>
                <a:latin typeface="Monotype Corsiva"/>
              </a:rPr>
              <a:t>Любовь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33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660033"/>
                </a:solidFill>
                <a:uFillTx/>
                <a:latin typeface="Monotype Corsiva"/>
              </a:rPr>
              <a:t>к Бог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Храм Триоцы на Репне"/>
          <p:cNvPicPr/>
          <p:nvPr/>
        </p:nvPicPr>
        <p:blipFill>
          <a:blip r:embed="rId1"/>
          <a:stretch/>
        </p:blipFill>
        <p:spPr>
          <a:xfrm>
            <a:off x="5181480" y="2225520"/>
            <a:ext cx="3810240" cy="37767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Monotype Corsiva"/>
              </a:rPr>
              <a:t>Темы христианств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33"/>
                </a:solidFill>
                <a:latin typeface="Monotype Corsiva"/>
              </a:rPr>
              <a:t>Любовь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60033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660033"/>
                </a:solidFill>
                <a:uFillTx/>
                <a:latin typeface="Monotype Corsiva"/>
              </a:rPr>
              <a:t>к миру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IMG_2874"/>
          <p:cNvPicPr/>
          <p:nvPr/>
        </p:nvPicPr>
        <p:blipFill>
          <a:blip r:embed="rId1"/>
          <a:stretch/>
        </p:blipFill>
        <p:spPr>
          <a:xfrm>
            <a:off x="4500720" y="2133720"/>
            <a:ext cx="3809880" cy="34830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Monotype Corsiva"/>
              </a:rPr>
              <a:t>Темы христианств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33"/>
                </a:solidFill>
                <a:latin typeface="Monotype Corsiva"/>
              </a:rPr>
              <a:t>Любовь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60033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33"/>
                </a:solidFill>
                <a:latin typeface="Monotype Corsiva"/>
              </a:rPr>
              <a:t>К  ближнем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1" descr="IMG_1269"/>
          <p:cNvPicPr/>
          <p:nvPr/>
        </p:nvPicPr>
        <p:blipFill>
          <a:blip r:embed="rId1"/>
          <a:srcRect l="10653" t="0" r="0" b="0"/>
          <a:stretch/>
        </p:blipFill>
        <p:spPr>
          <a:xfrm>
            <a:off x="5003640" y="256536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3716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6840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вященное Пис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00360" y="2057400"/>
            <a:ext cx="4491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В начале сотворил Бог небо и землю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Земля же была безвидна и пуста, и тьма над бездною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25097_640"/>
          <p:cNvPicPr/>
          <p:nvPr/>
        </p:nvPicPr>
        <p:blipFill>
          <a:blip r:embed="rId1"/>
          <a:stretch/>
        </p:blipFill>
        <p:spPr>
          <a:xfrm>
            <a:off x="395280" y="1700280"/>
            <a:ext cx="4032360" cy="46814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онстантин  БАЛЬМОНТ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(1867 - 194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220px-Konstantin_Balmont_by_Valentin_Serov_1905"/>
          <p:cNvPicPr/>
          <p:nvPr/>
        </p:nvPicPr>
        <p:blipFill>
          <a:blip r:embed="rId1"/>
          <a:stretch/>
        </p:blipFill>
        <p:spPr>
          <a:xfrm>
            <a:off x="468360" y="1981080"/>
            <a:ext cx="2951280" cy="45435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066920" y="1268280"/>
            <a:ext cx="43909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Бог создал мир из ничег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Учись, художник, у него,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И, если твой талант крупиц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оделай с нею чудес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Взрасти безмерные лес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И сам, как сказочная птиц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Умчись высоко в небес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Где светит вольная зарниц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Где вечный облачный приб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Бежит по бездне голуб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196640"/>
            <a:ext cx="75582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Monotype Corsiva"/>
              </a:rPr>
              <a:t>Христианские  мотивы в творчестве русских поэтов и композиторов</a:t>
            </a:r>
            <a:r>
              <a:rPr b="1" lang="en-US" sz="4800" spc="-1" strike="noStrike">
                <a:solidFill>
                  <a:srgbClr val="000066"/>
                </a:solidFill>
                <a:latin typeface="Monotype Corsiva"/>
              </a:rPr>
              <a:t> (</a:t>
            </a:r>
            <a:r>
              <a:rPr b="1" lang="ru-RU" sz="4800" spc="-1" strike="noStrike">
                <a:solidFill>
                  <a:srgbClr val="000066"/>
                </a:solidFill>
                <a:latin typeface="Monotype Corsiva"/>
              </a:rPr>
              <a:t>живших в Москве и Подмосковье</a:t>
            </a:r>
            <a:r>
              <a:rPr b="1" lang="en-US" sz="4800" spc="-1" strike="noStrike">
                <a:solidFill>
                  <a:srgbClr val="000066"/>
                </a:solidFill>
                <a:latin typeface="Monotype Corsiva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49360"/>
            <a:ext cx="71611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Мотив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– прохождение через всё творчество или художественное произведение какой-либо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пределённой  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660033"/>
                </a:solidFill>
                <a:latin typeface="Monotype Corsiva"/>
              </a:rPr>
              <a:t>«Бог создал мир из ничего…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205000"/>
            <a:ext cx="777240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3366"/>
                </a:solidFill>
                <a:latin typeface="Monotype Corsiva"/>
              </a:rPr>
              <a:t>Бог - Творец   всего сущег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3366"/>
                </a:solidFill>
                <a:latin typeface="Monotype Corsiva"/>
              </a:rPr>
              <a:t>Как мы должны относиться к нему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66"/>
                </a:solidFill>
                <a:latin typeface="Monotype Corsiva"/>
              </a:rPr>
              <a:t>Любовь к Бог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9320" y="41907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Monotype Corsiva"/>
              </a:rPr>
              <a:t>Молитва – разговор человека с Бог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907642614"/>
          <p:cNvPicPr/>
          <p:nvPr/>
        </p:nvPicPr>
        <p:blipFill>
          <a:blip r:embed="rId1"/>
          <a:srcRect l="0" t="0" r="0" b="10202"/>
          <a:stretch/>
        </p:blipFill>
        <p:spPr>
          <a:xfrm>
            <a:off x="3348000" y="1773360"/>
            <a:ext cx="3024360" cy="34560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68360" y="68544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66"/>
                </a:solidFill>
                <a:latin typeface="Monotype Corsiva"/>
              </a:rPr>
              <a:t>Любовь к Бог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"Молитесь же так: Отче наш, сущий на небесах! да святится имя Твое; да приидет Царствие Твое; да будет воля Твоя и на земле, как на небе; хлеб наш насущный дай нам на сей день; и прости нам долги наши, как и мы прощаем должникам нашим; и не введи нас в искушение, но избавь нас от лукавого. Ибо Твое есть Царство и сила и слава во веки. Аминь. (Матф.6:9-1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Пушкин в Москв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814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рая Москвы, края родные,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Где на заре цветущих лет 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Часы беспечности я тратил золотые, 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е зная горести и бед.    А. С. Пушк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x2-019"/>
          <p:cNvPicPr/>
          <p:nvPr/>
        </p:nvPicPr>
        <p:blipFill>
          <a:blip r:embed="rId1"/>
          <a:stretch/>
        </p:blipFill>
        <p:spPr>
          <a:xfrm>
            <a:off x="1366920" y="2057400"/>
            <a:ext cx="3514680" cy="41148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3T09:19:35Z</dcterms:created>
  <dc:creator>Мама</dc:creator>
  <dc:description/>
  <dc:language>en-US</dc:language>
  <cp:lastModifiedBy>Марина</cp:lastModifiedBy>
  <dcterms:modified xsi:type="dcterms:W3CDTF">2013-04-15T07:35:27Z</dcterms:modified>
  <cp:revision>18</cp:revision>
  <dc:subject/>
  <dc:title>Христианские  мотивы в творчестве русских поэтов и композиторов</dc:title>
</cp:coreProperties>
</file>